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98AF-700C-4BC3-A3C3-9C8CD38F6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F45E-A5AE-42FB-A134-53156E694D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7F4-8DB3-4757-BFC8-C24C6A04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5E22-85E2-4F84-B5B5-D5B8E6D6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1730-DE3E-47F3-B154-5C3258AC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0DF-55A0-495A-BF69-1C28383A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165C0-CF0D-4EBF-83A2-7578748C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BE320-3451-43E1-AEDF-C9736DA1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1C12D-93EF-48BA-B5D2-D111BA24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58235-DDD8-4DC0-99E7-40853D3A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F64A1-884D-44BB-A654-562F6617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4E8CD-A490-491D-87A5-47B52B4F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84A3D-4E16-45D1-B0F2-5DAFFD8A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E06E-956B-47C8-A5B3-436373DD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79F18-88F8-4DC0-BE5F-010B8807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F7958-99A8-419B-9056-20E788E7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5E462-7A9E-499A-A229-503842EA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D3A2E-31FD-4382-85DA-7CB0EBA1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B4EB1-4B64-4A23-BACB-DC41D21E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DD5C-05AA-4880-AFC0-4C9C6673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BC5-241C-4E4B-A41A-F9A78A06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5FD-0346-42FA-9C45-CF4037EB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3B57-EEC0-406F-AB57-65B28B5F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9F9-525F-4EB4-9165-B33BAA4A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E80-6D30-4B0E-88A9-10C0E6D2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4BD-616C-4ECA-A882-50CCE909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D060-970C-4316-8013-8252FF03D3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70AE-9655-44FF-9B8C-B58931A27F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anic_of_1873_bank_run.jpg" TargetMode="External"/><Relationship Id="rId2" Type="http://schemas.openxmlformats.org/officeDocument/2006/relationships/hyperlink" Target="http://en.wikipedia.org/wiki/Bank_run" TargetMode="External"/><Relationship Id="rId3" Type="http://schemas.openxmlformats.org/officeDocument/2006/relationships/hyperlink" Target="http://en.wikipedia.org/wiki/File:Panic_of_1873_bank_run.jpg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Unit I: Tensions in the Wes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495680" cy="5486400"/>
          </a:xfrm>
          <a:prstGeom prst="rect">
            <a:avLst/>
          </a:prstGeom>
          <a:solidFill>
            <a:srgbClr val="003399"/>
          </a:solidFill>
          <a:ln w="7632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Impact of the Homestead A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86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Gov’t offered farmers 160 acres of land if they cleared &amp; farmed it for 5 y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ppl who moved were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mest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increased farms from 2 mil to 6 mil from 1860-19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808000"/>
          </a:solidFill>
          <a:ln w="76320">
            <a:solidFill>
              <a:srgbClr val="46341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art II: Settling the West &amp; Growth of the Cattle Industr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0" name="Picture 9" descr="millions_acres"/>
          <p:cNvPicPr/>
          <p:nvPr/>
        </p:nvPicPr>
        <p:blipFill>
          <a:blip r:embed="rId1"/>
          <a:stretch/>
        </p:blipFill>
        <p:spPr>
          <a:xfrm>
            <a:off x="4952880" y="1600200"/>
            <a:ext cx="340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4038480" cy="6477120"/>
          </a:xfrm>
          <a:prstGeom prst="rect">
            <a:avLst/>
          </a:prstGeom>
          <a:solidFill>
            <a:srgbClr val="003399"/>
          </a:solidFill>
          <a:ln w="7632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a period of rain in the ‘Great Desert’ &amp; the promise of land urged over 500,000 settlers to move to the Great Pla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Farmers adjusted to the land &amp; the Great Plains became the most productive wheat-growing region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9" descr="wheat1"/>
          <p:cNvPicPr/>
          <p:nvPr/>
        </p:nvPicPr>
        <p:blipFill>
          <a:blip r:embed="rId1"/>
          <a:stretch/>
        </p:blipFill>
        <p:spPr>
          <a:xfrm>
            <a:off x="4724280" y="1523880"/>
            <a:ext cx="4419720" cy="294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homesteaders"/>
          <p:cNvPicPr/>
          <p:nvPr/>
        </p:nvPicPr>
        <p:blipFill>
          <a:blip r:embed="rId2"/>
          <a:stretch/>
        </p:blipFill>
        <p:spPr>
          <a:xfrm>
            <a:off x="4457880" y="914400"/>
            <a:ext cx="46861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038480" cy="4724640"/>
          </a:xfrm>
          <a:prstGeom prst="rect">
            <a:avLst/>
          </a:prstGeom>
          <a:solidFill>
            <a:srgbClr val="003399"/>
          </a:solidFill>
          <a:ln w="7632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Pacific Railroad Act (186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Building of the Transcontinental (across the continent) Railr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Gave companies free land if they laid railro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8" descr="Union+Pacific+Railroad"/>
          <p:cNvPicPr/>
          <p:nvPr/>
        </p:nvPicPr>
        <p:blipFill>
          <a:blip r:embed="rId1"/>
          <a:stretch/>
        </p:blipFill>
        <p:spPr>
          <a:xfrm>
            <a:off x="4533840" y="1219320"/>
            <a:ext cx="461016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4038480" cy="6248520"/>
          </a:xfrm>
          <a:prstGeom prst="rect">
            <a:avLst/>
          </a:prstGeom>
          <a:solidFill>
            <a:srgbClr val="003399"/>
          </a:solidFill>
          <a:ln w="5724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Gold R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Gold in Calif. (1849) caused more than 100,000 ppl to cross Great Pla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Mining towns sprang up in Colorado, (Silver) Nevada, (Copper) Montana, (Black Hills) Dak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13" descr="478px-California_Gold_Rush_handbill"/>
          <p:cNvPicPr/>
          <p:nvPr/>
        </p:nvPicPr>
        <p:blipFill>
          <a:blip r:embed="rId1"/>
          <a:stretch/>
        </p:blipFill>
        <p:spPr>
          <a:xfrm>
            <a:off x="4649760" y="0"/>
            <a:ext cx="426564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4038480" cy="5639040"/>
          </a:xfrm>
          <a:prstGeom prst="rect">
            <a:avLst/>
          </a:prstGeom>
          <a:solidFill>
            <a:srgbClr val="003399"/>
          </a:solidFill>
          <a:ln w="7632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ning Towns (Boom Towns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had no gov’t, no law, &amp; little order (‘Wild, Wild West’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Mining damaged land &amp; further moved N.A out of their homel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8" descr="51363106"/>
          <p:cNvPicPr/>
          <p:nvPr/>
        </p:nvPicPr>
        <p:blipFill>
          <a:blip r:embed="rId1"/>
          <a:stretch/>
        </p:blipFill>
        <p:spPr>
          <a:xfrm>
            <a:off x="4381560" y="1066680"/>
            <a:ext cx="47624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14300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. Ranchers &amp; Cowboy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800600" cy="4000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29200" y="0"/>
            <a:ext cx="4038480" cy="6858000"/>
          </a:xfrm>
          <a:prstGeom prst="rect">
            <a:avLst/>
          </a:prstGeom>
          <a:solidFill>
            <a:srgbClr val="003399"/>
          </a:solidFill>
          <a:ln w="7632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horn cattle needed to be transported to the eas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Drive’- cattle were driven from Texas to the stockyard near the rail roads in Kans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y collapsed in 1887 due to severe cold. Ranchers settled down &amp; built barns to house their c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7" descr="cowdrive"/>
          <p:cNvPicPr/>
          <p:nvPr/>
        </p:nvPicPr>
        <p:blipFill>
          <a:blip r:embed="rId2"/>
          <a:stretch/>
        </p:blipFill>
        <p:spPr>
          <a:xfrm>
            <a:off x="0" y="1828800"/>
            <a:ext cx="510552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038480" cy="6553080"/>
          </a:xfrm>
          <a:prstGeom prst="rect">
            <a:avLst/>
          </a:prstGeom>
          <a:solidFill>
            <a:srgbClr val="003399"/>
          </a:solidFill>
          <a:ln w="7632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Extermination of the Buffa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Stampeding buffalo &amp; Nat. Amer. caused a problem so hunters were encouraged to kill as many buffalo as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By 1880 the buffalo were hunted to near extinction &amp; the Plains Indians were forced to move to reservations due to lack of foo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8" descr="Buffalo%20485098"/>
          <p:cNvPicPr/>
          <p:nvPr/>
        </p:nvPicPr>
        <p:blipFill>
          <a:blip r:embed="rId1"/>
          <a:stretch/>
        </p:blipFill>
        <p:spPr>
          <a:xfrm>
            <a:off x="4114800" y="152280"/>
            <a:ext cx="50292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II. Reservation Life &amp; Resistanc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105520"/>
          </a:xfrm>
          <a:prstGeom prst="rect">
            <a:avLst/>
          </a:prstGeom>
          <a:solidFill>
            <a:srgbClr val="003399"/>
          </a:solidFill>
          <a:ln w="7632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Reser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Nat. Amer. Were forced to move on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serv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land set aside for Nat. Amer. &amp; were promised food, farm tools &amp;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. Amer. were urged to live like “the white man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sbfull"/>
          <p:cNvPicPr/>
          <p:nvPr/>
        </p:nvPicPr>
        <p:blipFill>
          <a:blip r:embed="rId1"/>
          <a:stretch/>
        </p:blipFill>
        <p:spPr>
          <a:xfrm>
            <a:off x="270000" y="1600200"/>
            <a:ext cx="3808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0948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B. Battle of Little Big Horn (Montana 1876)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3657600"/>
            <a:ext cx="9144000" cy="3200400"/>
          </a:xfrm>
          <a:prstGeom prst="rect">
            <a:avLst/>
          </a:prstGeom>
          <a:solidFill>
            <a:srgbClr val="003399"/>
          </a:solidFill>
          <a:ln w="5724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. Custer’s men discovered gold in the Black H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  Miners swarmed in &amp; the gov’t ordered the Sioux &amp; Cheyenne off the 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er was ordered to remove the Indians &amp;  attacked a group of Cheyenne &amp; Sioux camped by the Little Big Horn Ri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Custer &amp; all his men were killed &amp; but later congress forced Sioux &amp; Cheyenne on to reservations, later all Nat. Amer were forced onto reser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14" descr="custer"/>
          <p:cNvPicPr/>
          <p:nvPr/>
        </p:nvPicPr>
        <p:blipFill>
          <a:blip r:embed="rId1"/>
          <a:stretch/>
        </p:blipFill>
        <p:spPr>
          <a:xfrm>
            <a:off x="914400" y="609480"/>
            <a:ext cx="191448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The%20Battle%20of%20the%20Little%20Bighorn,%20Charles%20Russell,%201903-500"/>
          <p:cNvPicPr/>
          <p:nvPr/>
        </p:nvPicPr>
        <p:blipFill>
          <a:blip r:embed="rId2"/>
          <a:stretch/>
        </p:blipFill>
        <p:spPr>
          <a:xfrm>
            <a:off x="3048120" y="533520"/>
            <a:ext cx="52196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art IV: Farmers &amp; the Populist Movemen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572000" cy="5486400"/>
          </a:xfrm>
          <a:prstGeom prst="rect">
            <a:avLst/>
          </a:prstGeom>
          <a:solidFill>
            <a:srgbClr val="003399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ers Face Economic Hardship (late 1800’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prices for crops were falling= lower pro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farmer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ortgage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orrowed against) their farms to buy more 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good farming land was hard to f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bank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eclo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took back) on farmers who couldn’t pay their mortg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 railroads were charging farmers high prices for shipping &amp;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9" descr="gd19"/>
          <p:cNvPicPr/>
          <p:nvPr/>
        </p:nvPicPr>
        <p:blipFill>
          <a:blip r:embed="rId1"/>
          <a:stretch/>
        </p:blipFill>
        <p:spPr>
          <a:xfrm>
            <a:off x="4551480" y="1828800"/>
            <a:ext cx="4592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Great American De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Re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Buffa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Cattle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) Homest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)Pacific Railroad Act 18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4038480" cy="6019920"/>
          </a:xfrm>
          <a:prstGeom prst="rect">
            <a:avLst/>
          </a:prstGeom>
          <a:solidFill>
            <a:srgbClr val="003399"/>
          </a:soli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Farmers Demand Cheaper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fter the Civil War there was less $ in circulation so the  value of the $ incre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caused goods &amp; services became che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10" descr="greenbacks"/>
          <p:cNvPicPr/>
          <p:nvPr/>
        </p:nvPicPr>
        <p:blipFill>
          <a:blip r:embed="rId1"/>
          <a:stretch/>
        </p:blipFill>
        <p:spPr>
          <a:xfrm>
            <a:off x="4495680" y="685800"/>
            <a:ext cx="46483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52280"/>
            <a:ext cx="4038480" cy="6553440"/>
          </a:xfrm>
          <a:prstGeom prst="rect">
            <a:avLst/>
          </a:prstGeom>
          <a:solidFill>
            <a:srgbClr val="003399"/>
          </a:soli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f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Farmers wanted to increase the $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during inflation $ is worth less “cheap mone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cheap money causes the price of goods to r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7" descr="MPj04388550000[1]"/>
          <p:cNvPicPr/>
          <p:nvPr/>
        </p:nvPicPr>
        <p:blipFill>
          <a:blip r:embed="rId1"/>
          <a:stretch/>
        </p:blipFill>
        <p:spPr>
          <a:xfrm>
            <a:off x="304920" y="1676520"/>
            <a:ext cx="41148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4495680" cy="6705720"/>
          </a:xfrm>
          <a:prstGeom prst="rect">
            <a:avLst/>
          </a:prstGeom>
          <a:solidFill>
            <a:srgbClr val="003399"/>
          </a:soli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Farmers U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Oliver Kelley started the Patrons of Husbandr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Grange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help farmers battle the unfair practices of the railroads &amp; their middle men (grain brokers &amp; mercha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taught farmers how to organize &amp; pressure state gov’t to regulate railroa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was able to gain support from other organ. that sympathized with farmer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1" descr="Grangers_1873"/>
          <p:cNvPicPr/>
          <p:nvPr/>
        </p:nvPicPr>
        <p:blipFill>
          <a:blip r:embed="rId1"/>
          <a:stretch/>
        </p:blipFill>
        <p:spPr>
          <a:xfrm>
            <a:off x="4552920" y="533520"/>
            <a:ext cx="45910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038480" cy="6248520"/>
          </a:xfrm>
          <a:prstGeom prst="rect">
            <a:avLst/>
          </a:prstGeom>
          <a:solidFill>
            <a:srgbClr val="003399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Rise of the Populist Pa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alliances b/t the different groups led to the rise of Populism (mov’t of the peop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Formed the Populist Political Party (People’s Party)- wanted to take debt away from farmers &amp; others &amp; have a greater voice in the gov’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8" descr="0601_030301"/>
          <p:cNvPicPr/>
          <p:nvPr/>
        </p:nvPicPr>
        <p:blipFill>
          <a:blip r:embed="rId1"/>
          <a:stretch/>
        </p:blipFill>
        <p:spPr>
          <a:xfrm>
            <a:off x="4143240" y="1905120"/>
            <a:ext cx="50007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371600"/>
          </a:xfrm>
          <a:prstGeom prst="rect">
            <a:avLst/>
          </a:prstGeom>
          <a:solidFill>
            <a:srgbClr val="003399"/>
          </a:solidFill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2. Wanted Economic Reform- based on the idea that the gov’t is responsible for reforming social injustice.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809880"/>
          </a:xfrm>
          <a:prstGeom prst="rect">
            <a:avLst/>
          </a:prstGeom>
          <a:solidFill>
            <a:srgbClr val="003399"/>
          </a:soli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in the money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es based on income (graduated income 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loan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809880"/>
          </a:xfrm>
          <a:prstGeom prst="rect">
            <a:avLst/>
          </a:prstGeom>
          <a:solidFill>
            <a:srgbClr val="003399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a rise in prices of goods &amp; servi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 would benefit every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’t would be more fair than privately owned ba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28600" y="5408640"/>
            <a:ext cx="8458200" cy="1373760"/>
          </a:xfrm>
          <a:prstGeom prst="rect">
            <a:avLst/>
          </a:prstGeom>
          <a:solidFill>
            <a:srgbClr val="00339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In the West, were able to elect 5 senators, 3 governors, &amp; 1500 state legislators that supported their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0" y="5181480"/>
            <a:ext cx="4038480" cy="1524240"/>
          </a:xfrm>
          <a:prstGeom prst="rect">
            <a:avLst/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Ru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 the Fourth National Bank, No. 20 Nassau Street, New York City, 1873. From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rank Leslie's Illustrated Newspa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ctober 4, 187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038120" y="151920"/>
            <a:ext cx="4953240" cy="6705720"/>
          </a:xfrm>
          <a:prstGeom prst="rect">
            <a:avLst/>
          </a:prstGeom>
          <a:solidFill>
            <a:srgbClr val="003399"/>
          </a:soli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Panic of 1863 &amp; the Call for New Curr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Economy Falls due to 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failures in the railroad, banks, businesses &amp; eventually the stock market led to massive unemployment &amp; homelessne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Business owners of the Northeast &amp; ppl in the farming industry each had an idea of what would be best for the 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7" descr="300px-Panic_of_1873_bank_ru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03848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3. Battle Over Currency- the main issue during the election of 1896 was over currency ($)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419720" cy="5486400"/>
          </a:xfrm>
          <a:prstGeom prst="rect">
            <a:avLst/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700"/>
              </a:spcBef>
              <a:buClr>
                <a:srgbClr val="e3e3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lverites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rmers &amp; laborers  that support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metall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use of both gold &amp; silver instead of paper money &amp; checks (cheap $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would cause inflation b/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prices ri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more ppl woul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ve $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11" descr="silver-american19-reverse-lrg"/>
          <p:cNvPicPr/>
          <p:nvPr/>
        </p:nvPicPr>
        <p:blipFill>
          <a:blip r:embed="rId1"/>
          <a:stretch/>
        </p:blipFill>
        <p:spPr>
          <a:xfrm>
            <a:off x="5257800" y="1371600"/>
            <a:ext cx="2924280" cy="2865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39197167_gold"/>
          <p:cNvPicPr/>
          <p:nvPr/>
        </p:nvPicPr>
        <p:blipFill>
          <a:blip r:embed="rId2"/>
          <a:stretch/>
        </p:blipFill>
        <p:spPr>
          <a:xfrm>
            <a:off x="5410080" y="4343400"/>
            <a:ext cx="272412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15000"/>
          </a:xfrm>
          <a:prstGeom prst="rect">
            <a:avLst/>
          </a:prstGeom>
          <a:solidFill>
            <a:srgbClr val="003399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“Gold Bugs” – Business owners &amp; bankers that wanted to keep using the gold stand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believed gold was more sec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gold was stable “tight money” expensive but less $ for the p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n the long run $ would be more valu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9" descr="39197167_gold"/>
          <p:cNvPicPr/>
          <p:nvPr/>
        </p:nvPicPr>
        <p:blipFill>
          <a:blip r:embed="rId1"/>
          <a:stretch/>
        </p:blipFill>
        <p:spPr>
          <a:xfrm>
            <a:off x="5029200" y="762120"/>
            <a:ext cx="3333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solidFill>
            <a:srgbClr val="003399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Election of 1896 Ends the Populist Mo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William Jennings Bryan looses to William McKinley due to lack of support from urban &amp; industrial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consumers &amp; businesses feared inf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Populist mov’t proved that poorly treated groups could organize &amp; have a political impac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8" descr="speech"/>
          <p:cNvPicPr/>
          <p:nvPr/>
        </p:nvPicPr>
        <p:blipFill>
          <a:blip r:embed="rId1"/>
          <a:stretch/>
        </p:blipFill>
        <p:spPr>
          <a:xfrm>
            <a:off x="4876920" y="380880"/>
            <a:ext cx="4057560" cy="3994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prh_01_img0053"/>
          <p:cNvPicPr/>
          <p:nvPr/>
        </p:nvPicPr>
        <p:blipFill>
          <a:blip r:embed="rId2"/>
          <a:stretch/>
        </p:blipFill>
        <p:spPr>
          <a:xfrm>
            <a:off x="5334120" y="685800"/>
            <a:ext cx="3467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153280" cy="2057400"/>
          </a:xfrm>
          <a:prstGeom prst="rect">
            <a:avLst/>
          </a:prstGeom>
          <a:solidFill>
            <a:srgbClr val="003399"/>
          </a:solidFill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A. Manifest Destiny</a:t>
            </a:r>
            <a:br>
              <a:rPr sz="24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“obvious fate”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ief that it was Americas god given destiny t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ead out &amp; conquer all of North America 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rcRect l="2751" t="0" r="0" b="9375"/>
          <a:stretch/>
        </p:blipFill>
        <p:spPr>
          <a:xfrm>
            <a:off x="2133720" y="1219320"/>
            <a:ext cx="5105160" cy="34891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2413080" y="63565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g.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solidFill>
            <a:srgbClr val="808000">
              <a:alpha val="67000"/>
            </a:srgbClr>
          </a:solidFill>
          <a:ln w="5724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art I: Native Americans in Cri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0" y="1447920"/>
            <a:ext cx="4191120" cy="54100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. Frontier Before 18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ntier - an imaginary line that separates settled areas from the wilder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 Prior to 1850 the area b/t Missouri &amp; Cali. was unsett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This area was known as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eat American Deser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consisted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eat Plai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amp;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eat Bas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7" descr="0000038125_20070301141550"/>
          <p:cNvPicPr/>
          <p:nvPr/>
        </p:nvPicPr>
        <p:blipFill>
          <a:blip r:embed="rId1"/>
          <a:stretch/>
        </p:blipFill>
        <p:spPr>
          <a:xfrm>
            <a:off x="4038480" y="1447920"/>
            <a:ext cx="5105520" cy="33811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united-stat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1640" y="228600"/>
            <a:ext cx="4343400" cy="60199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Indians of the Plains saw the land as sacred &amp; used it to support their way of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Tribes included: Nez Perce, Cheyenne, Comanche, Sio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Many groups were forced or tricked into signing treaties that put Nat. Amer. 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ervation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oor lan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0" descr="ChiefJoseph"/>
          <p:cNvPicPr/>
          <p:nvPr/>
        </p:nvPicPr>
        <p:blipFill>
          <a:blip r:embed="rId1"/>
          <a:stretch/>
        </p:blipFill>
        <p:spPr>
          <a:xfrm>
            <a:off x="380880" y="228600"/>
            <a:ext cx="4019760" cy="5133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schupfer+indians"/>
          <p:cNvPicPr/>
          <p:nvPr/>
        </p:nvPicPr>
        <p:blipFill>
          <a:blip r:embed="rId2"/>
          <a:stretch/>
        </p:blipFill>
        <p:spPr>
          <a:xfrm>
            <a:off x="609480" y="1447920"/>
            <a:ext cx="3810240" cy="311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indians-081a"/>
          <p:cNvPicPr/>
          <p:nvPr/>
        </p:nvPicPr>
        <p:blipFill>
          <a:blip r:embed="rId3"/>
          <a:stretch/>
        </p:blipFill>
        <p:spPr>
          <a:xfrm>
            <a:off x="152280" y="2514600"/>
            <a:ext cx="42865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image?id=5540&amp;rendTypeId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indian9"/>
          <p:cNvPicPr/>
          <p:nvPr/>
        </p:nvPicPr>
        <p:blipFill>
          <a:blip r:embed="rId1"/>
          <a:stretch/>
        </p:blipFill>
        <p:spPr>
          <a:xfrm>
            <a:off x="0" y="-353880"/>
            <a:ext cx="9144000" cy="75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2:59:46Z</dcterms:created>
  <dc:creator>BPD</dc:creator>
  <dc:description/>
  <dc:language>en-US</dc:language>
  <cp:lastModifiedBy>Mark Greer</cp:lastModifiedBy>
  <dcterms:modified xsi:type="dcterms:W3CDTF">2010-09-29T01:26:35Z</dcterms:modified>
  <cp:revision>43</cp:revision>
  <dc:subject/>
  <dc:title>Unit 1: Tensions in the West</dc:title>
</cp:coreProperties>
</file>